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</p:sldIdLst>
  <p:sldSz cx="12188825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2B197-74A0-4B91-BA51-8F84DE58E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0C609-A946-4BD5-8671-2E910D130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43BA9-CE02-4CCA-B25D-311FA6AF3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514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858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1744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5514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858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BFB56-09AA-4213-9107-7CBA08E86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862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1117440" y="76320"/>
            <a:ext cx="101570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862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16A39-A5C9-47EA-86BA-BBEC8108F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514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79858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111744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45514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79858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862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20C45-C78A-43D6-BA83-C5095B83D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1117440" y="76320"/>
            <a:ext cx="101570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514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79858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111744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45514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79858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99EBD-AA4D-448C-8CAD-D2F28007A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862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301B5-63A6-4A43-8F73-F06BB569E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8513E-EE3C-4AB2-8737-2852FC2B8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333AF-CDED-4D1E-8B28-F47AB9A9B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1727B-84FC-48FF-8563-F1E251803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B750D-74AB-4C41-AD28-3428B191A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1117440" y="76320"/>
            <a:ext cx="101570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A0A0F-2169-44DA-92A4-B498DF9E7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3424A-23A6-4400-B3D1-1E9A05B40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ED1C2-9362-4A81-A086-B1D246C1A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7D149-5CBA-47EF-BE25-82D709CBD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F57CA-A164-455E-9C42-9E6B66954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43C24-39C5-4BFB-8D90-21F25BF31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514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79858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111744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45514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79858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EBCD0-C60C-4F51-97ED-56D1EC015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85A428-0CF8-42A8-8850-5146DA6EF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03DAC-5D80-4929-BF2C-287AEE900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862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A69645-666E-4452-B5C3-90BE539F1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3491A9-66DA-491F-980B-A396FF5BE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6F845F-ED5F-49FA-91E1-B366EF732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B661EB-D635-4A81-827B-F74204E68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1117440" y="76320"/>
            <a:ext cx="101570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ADE522-9AC6-430F-BF39-A77BCA401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6E82DD-4B62-4C9A-8208-4BEEA2FA2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AB13D0-0271-4594-8595-CC372E1D3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2982CE-9FA0-4AE1-A969-F47E9D2E4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AB96B1-41EC-4A78-9FEE-80234FC7A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9A940D-FCCF-4919-A56E-F0B7E5E4C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17440" y="76320"/>
            <a:ext cx="101570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55423-E61B-40EB-9595-A2436022A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514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79858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111744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45514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79858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DBC929-CD8D-456D-B44F-25A31B6FF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FAF4D4-A259-4218-B180-A170DCCFE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862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45BFEA-3600-46C4-B46A-BD32513A1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9D4C8F-7EB8-4D90-9ACE-EA67783F4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A363B5-12EE-48BB-B26D-584377E0A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8F9A1E-ABC8-42AE-BC2C-277F2BAB7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1117440" y="76320"/>
            <a:ext cx="101570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DFF31A-7A3E-4FC3-8915-380A7E23C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465F98-0AE1-43FD-9B18-7233151F7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FCEF55-A898-4D9E-B8FF-686B11B9F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7B5FCE-3C2E-4577-A060-E83A21654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B2B24-8B2E-4B4D-B4F3-9B43B87FD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9135B6-E4ED-4EC4-90BF-73BCC4B02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89640A-E5B6-409D-BF3E-335F8B598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514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79858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111744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45514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79858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D25515-65EC-4C4A-AC84-BD08EF860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AEBC6-228C-42E6-BDC5-6B5E2600F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2731B-CA67-4792-9D1E-764D04E80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rostokąt 8"/>
          <p:cNvSpPr/>
          <p:nvPr/>
        </p:nvSpPr>
        <p:spPr>
          <a:xfrm>
            <a:off x="304920" y="0"/>
            <a:ext cx="11579040" cy="6858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55294"/>
                </a:srgbClr>
              </a:gs>
            </a:gsLst>
            <a:lin ang="7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400" spc="-1" strike="noStrike">
                <a:solidFill>
                  <a:srgbClr val="374c81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1" marL="73008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2" marL="115740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3" marL="158436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4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5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6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117440" y="6400440"/>
            <a:ext cx="274176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pl-PL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12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908520" y="6400440"/>
            <a:ext cx="621504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10167840" y="6400440"/>
            <a:ext cx="110664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pl-PL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fld id="{D77205E3-714C-4631-9459-B7C58AF21FAD}" type="slidenum">
              <a:rPr b="0" lang="pl-PL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400" spc="-1" strike="noStrike">
                <a:solidFill>
                  <a:srgbClr val="374c81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1" marL="73008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2" marL="115740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3" marL="158436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4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5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6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400" spc="-1" strike="noStrike">
                <a:solidFill>
                  <a:srgbClr val="374c81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1" marL="73008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2" marL="115740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3" marL="158436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4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5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6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400" spc="-1" strike="noStrike">
                <a:solidFill>
                  <a:srgbClr val="374c81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1" marL="73008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2" marL="115740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3" marL="158436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4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5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6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dt" idx="4"/>
          </p:nvPr>
        </p:nvSpPr>
        <p:spPr>
          <a:xfrm>
            <a:off x="1117440" y="6400440"/>
            <a:ext cx="274176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pl-PL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12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 type="ftr" idx="5"/>
          </p:nvPr>
        </p:nvSpPr>
        <p:spPr>
          <a:xfrm>
            <a:off x="3908520" y="6400440"/>
            <a:ext cx="621504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 type="sldNum" idx="6"/>
          </p:nvPr>
        </p:nvSpPr>
        <p:spPr>
          <a:xfrm>
            <a:off x="10167840" y="6400440"/>
            <a:ext cx="110664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pl-PL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fld id="{852F845F-2332-424E-AF60-05F769DBCA4F}" type="slidenum">
              <a:rPr b="0" lang="pl-PL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rostokąt 7"/>
          <p:cNvSpPr/>
          <p:nvPr/>
        </p:nvSpPr>
        <p:spPr>
          <a:xfrm>
            <a:off x="3960720" y="0"/>
            <a:ext cx="7923240" cy="6858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55294"/>
                </a:srgbClr>
              </a:gs>
            </a:gsLst>
            <a:lin ang="7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400" spc="-1" strike="noStrike">
                <a:solidFill>
                  <a:srgbClr val="374c81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1" marL="73008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2" marL="115740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3" marL="158436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4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5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6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dt" idx="7"/>
          </p:nvPr>
        </p:nvSpPr>
        <p:spPr>
          <a:xfrm>
            <a:off x="1117440" y="6400440"/>
            <a:ext cx="274176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pl-PL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12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 type="ftr" idx="8"/>
          </p:nvPr>
        </p:nvSpPr>
        <p:spPr>
          <a:xfrm>
            <a:off x="3908520" y="6400440"/>
            <a:ext cx="621504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 type="sldNum" idx="9"/>
          </p:nvPr>
        </p:nvSpPr>
        <p:spPr>
          <a:xfrm>
            <a:off x="10167840" y="6400440"/>
            <a:ext cx="110664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pl-PL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fld id="{304AC436-0A7A-4FAE-B4AE-A577DC6D136E}" type="slidenum">
              <a:rPr b="0" lang="pl-PL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rostokąt 7"/>
          <p:cNvSpPr/>
          <p:nvPr/>
        </p:nvSpPr>
        <p:spPr>
          <a:xfrm>
            <a:off x="2082960" y="0"/>
            <a:ext cx="8022960" cy="6858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55294"/>
                </a:srgbClr>
              </a:gs>
            </a:gsLst>
            <a:lin ang="7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400" spc="-1" strike="noStrike">
                <a:solidFill>
                  <a:srgbClr val="374c81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1" marL="73008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2" marL="115740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3" marL="158436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4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5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6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dt" idx="10"/>
          </p:nvPr>
        </p:nvSpPr>
        <p:spPr>
          <a:xfrm>
            <a:off x="1117440" y="6400440"/>
            <a:ext cx="274176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pl-PL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12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 type="ftr" idx="11"/>
          </p:nvPr>
        </p:nvSpPr>
        <p:spPr>
          <a:xfrm>
            <a:off x="3908520" y="6400440"/>
            <a:ext cx="621504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 type="sldNum" idx="12"/>
          </p:nvPr>
        </p:nvSpPr>
        <p:spPr>
          <a:xfrm>
            <a:off x="10167840" y="6400440"/>
            <a:ext cx="110664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pl-PL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fld id="{69F7BCAD-644E-4417-9978-65D86469322F}" type="slidenum">
              <a:rPr b="0" lang="pl-PL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671720" y="1498320"/>
            <a:ext cx="7008840" cy="22906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pl-PL" sz="5400" spc="-1" strike="noStrike">
                <a:solidFill>
                  <a:srgbClr val="374c81"/>
                </a:solidFill>
                <a:latin typeface="Century Gothic"/>
              </a:rPr>
              <a:t>Fiszki autokorektywne</a:t>
            </a:r>
            <a:endParaRPr b="0" lang="en-US" sz="5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44" name="Prostokąt zaokrąglony 4"/>
          <p:cNvSpPr/>
          <p:nvPr/>
        </p:nvSpPr>
        <p:spPr>
          <a:xfrm>
            <a:off x="4078440" y="4149720"/>
            <a:ext cx="2447640" cy="1511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7e5c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2400" spc="-1" strike="noStrike" u="sng">
                <a:solidFill>
                  <a:srgbClr val="0070c0"/>
                </a:solidFill>
                <a:uFillTx/>
                <a:latin typeface="Century Gothic"/>
                <a:hlinkClick r:id="rId1" action="ppaction://hlinksldjump"/>
              </a:rPr>
              <a:t>Pytania łatwe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45" name="Prostokąt zaokrąglony 5"/>
          <p:cNvSpPr/>
          <p:nvPr/>
        </p:nvSpPr>
        <p:spPr>
          <a:xfrm>
            <a:off x="6670800" y="4149720"/>
            <a:ext cx="2447640" cy="1511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7e5c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2400" spc="-1" strike="noStrike">
                <a:solidFill>
                  <a:srgbClr val="374c81"/>
                </a:solidFill>
                <a:latin typeface="Century Gothic"/>
              </a:rPr>
              <a:t>Pytania średnio trudne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46" name="Prostokąt zaokrąglony 6"/>
          <p:cNvSpPr/>
          <p:nvPr/>
        </p:nvSpPr>
        <p:spPr>
          <a:xfrm>
            <a:off x="9271080" y="4149720"/>
            <a:ext cx="2448000" cy="1511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7e5c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2400" spc="-1" strike="noStrike">
                <a:solidFill>
                  <a:srgbClr val="374c81"/>
                </a:solidFill>
                <a:latin typeface="Century Gothic"/>
              </a:rPr>
              <a:t>Pytania trudne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1117440" y="3284640"/>
            <a:ext cx="10157040" cy="7920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3200" spc="-1" strike="noStrike">
                <a:solidFill>
                  <a:srgbClr val="374c81"/>
                </a:solidFill>
                <a:latin typeface="Century Gothic"/>
              </a:rPr>
              <a:t>Czym się różni rana cięta od rany szarpanej?</a:t>
            </a:r>
            <a:endParaRPr b="0" lang="en-US" sz="32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48" name="Strzałka w prawo 1"/>
          <p:cNvSpPr/>
          <p:nvPr/>
        </p:nvSpPr>
        <p:spPr>
          <a:xfrm>
            <a:off x="9263160" y="5877000"/>
            <a:ext cx="2011320" cy="792000"/>
          </a:xfrm>
          <a:prstGeom prst="rightArrow">
            <a:avLst>
              <a:gd name="adj1" fmla="val 50000"/>
              <a:gd name="adj2" fmla="val 50015"/>
            </a:avLst>
          </a:prstGeom>
          <a:solidFill>
            <a:srgbClr val="ffffff"/>
          </a:solidFill>
          <a:ln w="12600">
            <a:solidFill>
              <a:srgbClr val="7e5c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2000" spc="-1" strike="noStrike" u="sng">
                <a:solidFill>
                  <a:srgbClr val="0070c0"/>
                </a:solidFill>
                <a:uFillTx/>
                <a:latin typeface="Century Gothic"/>
                <a:hlinkClick r:id="rId1" action="ppaction://hlinksldjump"/>
              </a:rPr>
              <a:t>Odpowiedź</a:t>
            </a:r>
            <a:endParaRPr b="0" lang="en-US" sz="20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1990800" y="1412640"/>
            <a:ext cx="9283680" cy="447012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2800" spc="-1" strike="noStrike">
                <a:solidFill>
                  <a:srgbClr val="374c81"/>
                </a:solidFill>
                <a:latin typeface="Century Gothic"/>
              </a:rPr>
              <a:t>Rana cięta ma gładkie brzegi, podczas gdy rana szarpana ma brzegi nieregularne</a:t>
            </a:r>
            <a:endParaRPr b="0" lang="en-US" sz="28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18T14:36:12Z</dcterms:created>
  <dc:creator/>
  <dc:description/>
  <cp:keywords/>
  <dc:language>en-US</dc:language>
  <cp:lastModifiedBy/>
  <dcterms:modified xsi:type="dcterms:W3CDTF">2013-08-18T15:39:27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27879409991</vt:lpwstr>
  </property>
</Properties>
</file>